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86E-6921-4ED4-8696-870BFF81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7C1A-1D23-40B7-A7F3-CBCA0863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1970-8268-44BF-8ED1-FB6AEA45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5AFF-001F-4B29-AD0B-6AE9BCF3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CE8-3770-4A9C-BDD3-4B1A0F0C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7A8-3BA7-43D9-AF7A-B05C7778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00E-A3C9-45DC-983E-C8BCDF52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A05-F8C0-4814-B573-B3650D98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0D1-62B1-4481-A9B6-1A33C26D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34B-A4E6-4432-AF0E-8F058F94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AE9-D4CC-4FC5-8E68-3A78BE9A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080-70B7-4D7D-93C0-A8DEE57B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501-93E3-4F0A-BC03-151D4E6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DD9-8AD3-4C94-B5FD-23F0D2F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E71-C42E-4548-8CA6-A19FB4D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7B7-7A99-4AE0-9FC7-02114436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135-09B2-4681-8C96-F11F6412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image" Target="../media/image2.jpeg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4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wanting cak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966960"/>
            <a:ext cx="1398600" cy="1395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565360"/>
            <a:ext cx="417240" cy="406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3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. 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119640"/>
            <a:ext cx="393840" cy="489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6320" y="6095880"/>
            <a:ext cx="38124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to a party for Queen Charlotte. Needs her wigmak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103800"/>
            <a:ext cx="42048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ousing some solder wive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936960"/>
            <a:ext cx="417240" cy="406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200400"/>
            <a:ext cx="3934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aving her slave ‘punished’ to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ld that worthless little gir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rejec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ingham’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 reque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94360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666880" y="5867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ought two girls for the price of o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anting cak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914400"/>
            <a:ext cx="1432080" cy="1317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nuary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alling on people, writing letters, playing the spinet, ba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My cousins in England, the finer  things in life, c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involving the spi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…what’s movi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what’s tv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bison Curus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70480"/>
            <a:ext cx="685800" cy="460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1840" y="6019920"/>
            <a:ext cx="52704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6 Wall Street, 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…Phon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685800" y="1752480"/>
            <a:ext cx="7467480" cy="14479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alb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8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3733920" y="5105520"/>
            <a:ext cx="895320" cy="947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anting cak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1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152280" y="533520"/>
            <a:ext cx="59688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3" descr="2"/>
          <p:cNvPicPr/>
          <p:nvPr/>
        </p:nvPicPr>
        <p:blipFill>
          <a:blip r:embed="rId3"/>
          <a:stretch/>
        </p:blipFill>
        <p:spPr>
          <a:xfrm>
            <a:off x="838080" y="2092320"/>
            <a:ext cx="1140120" cy="76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5"/>
          <p:cNvPicPr/>
          <p:nvPr/>
        </p:nvPicPr>
        <p:blipFill>
          <a:blip r:embed="rId4"/>
          <a:stretch/>
        </p:blipFill>
        <p:spPr>
          <a:xfrm>
            <a:off x="2341440" y="1905120"/>
            <a:ext cx="87660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7" descr="oaththp"/>
          <p:cNvPicPr/>
          <p:nvPr/>
        </p:nvPicPr>
        <p:blipFill>
          <a:blip r:embed="rId5"/>
          <a:stretch/>
        </p:blipFill>
        <p:spPr>
          <a:xfrm>
            <a:off x="3728880" y="1905120"/>
            <a:ext cx="92412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9" descr="celebthp"/>
          <p:cNvPicPr/>
          <p:nvPr/>
        </p:nvPicPr>
        <p:blipFill>
          <a:blip r:embed="rId6"/>
          <a:stretch/>
        </p:blipFill>
        <p:spPr>
          <a:xfrm>
            <a:off x="5068800" y="1905120"/>
            <a:ext cx="144468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3:39:09Z</dcterms:modified>
  <cp:revision>38</cp:revision>
  <dc:subject/>
  <dc:title>Profile</dc:title>
</cp:coreProperties>
</file>